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349-F9B4-4450-A0A6-ABC79C5D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80E-D9C5-4EA4-85D9-A3576370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0F6-83B0-462F-9C60-AC89A7CB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F97-8690-4B8D-A27D-075E9DC8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4DA-2E69-467C-A394-D9B8A32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672-9EBF-4B93-A4BC-C96ECD9B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0D5-CD37-4B5C-8628-D9A82931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5E-933C-4BED-B40D-52765A9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3DC-E561-4714-89E5-AE6858C8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BB3-DF40-458D-9ED0-774589E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EC2-B79E-4689-91FB-67D54110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BC8-71A1-4EFE-BB1F-9FBE15A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E9A3-C7EC-40A1-A8B1-9E867666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 RUSSIAS PAST 1918-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Dan Drisc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son W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e 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at Revo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04:33Z</dcterms:created>
  <dc:creator> </dc:creator>
  <dc:description/>
  <dc:language>en-US</dc:language>
  <cp:lastModifiedBy> </cp:lastModifiedBy>
  <dcterms:modified xsi:type="dcterms:W3CDTF">2010-12-14T14:29:07Z</dcterms:modified>
  <cp:revision>2</cp:revision>
  <dc:subject/>
  <dc:title>Slide 1</dc:title>
</cp:coreProperties>
</file>